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BA3A-C4E0-4B0A-82C6-F1D440A5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24B8-4398-4B31-BF81-A3BD5B95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3A69-44D5-4B7F-85E2-FD66D317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980B-1E8E-44F7-BE9F-F56BA960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AA70-DE12-4C7C-B6DC-BD1F30DA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B2CE-AD41-43DF-88BC-4C8A752D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2A02-12D4-4A72-B539-81442C02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A0E8-D0E0-425F-A71B-1AB384D1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8BA5-6818-4587-A3CE-AC49B963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3810-9D42-4EE4-A0E3-BF944449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CBD4-F6F5-4509-8DB0-D200478B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79AB-2D1C-45F2-8E98-CA7C95CF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E984-FD91-4CA7-A969-FCDE2C6D293D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42 Radostná zvesť o spasen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zne tmavej noci ti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ari pravdy pocho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už skoro príde, tešme s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pravme sa na ten deň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tná zvesť o spasen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nie už všetkým národo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namenia sa napĺňajú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d Kristovým návrat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šade verné Božie de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rojanjelskú nesú zve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udca je už predodverm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dajme Bohu slávu, č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zne tmavej noci ti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ari pravdy pocho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už skoro príde, tešme s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pravme sa na ten deň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lízko je už doba slávn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dej sa raz vypln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Pán túžby našej vier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skutočnosť prem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tône smrti, z hrobov prach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ov hlas keď zavelí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í čo v neho uverili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retnú sa s ním pri ciel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zne tmavej noci ti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ari pravdy pocho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už skoro príde, tešme s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pravme sa na ten deň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láda hriechu už sa skonč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stane mier na zem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pasiteľ nám zaruču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čný život blaže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stane už utrpen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šetko zlo sa pomin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o zástupmi vykúpených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čne s Pánom bude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san Bielik</cp:lastModifiedBy>
  <dcterms:modified xsi:type="dcterms:W3CDTF">2010-04-03T11:19:15Z</dcterms:modified>
  <cp:revision>47</cp:revision>
  <dc:subject/>
  <dc:title>Je veľký náš Pán, on slávy je Kráľ Nech do všetkých strán  spev vrúcnych znie chvál.</dc:title>
</cp:coreProperties>
</file>